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63F2-6390-4B03-BA14-9E25A38F8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1CDA-7EC0-4C37-B202-5C2CCE8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BA70-9257-47E1-BE2F-1877215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9878-0FA2-4D6D-867A-155E709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CFCE-8B7C-4665-AC2F-B5A3DB98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0F55-D3FF-4004-BD31-9570A7D1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83CB-411D-4F18-A599-D1498DE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0094-B051-4187-BED1-FB518636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0070-9984-4CB8-8017-A4151FFF2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0F11-0662-4E01-A2A8-30F8454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B054-EC20-4CB7-AFCD-7A5D715C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D26F-2B95-41BB-A4CD-50CF0F84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46C2-F487-419B-A5B1-546B9D8F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124D-7211-4215-8576-C16914A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0CE2-2EB1-4D3C-8BCE-BF4C6DA4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C1B1-8A12-40DB-A1E3-6F456EE8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21D0-73A9-4282-B384-81D51AB2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D2E7-88FB-4634-92B8-D03C13D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A48E-3592-4866-B82C-F1F36AE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B04E-A010-4FB6-BC64-8C656A1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478A-0BE2-45CC-9C02-63EAF9FFE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F7088-A6E4-4A54-9600-5E9B84635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94645-CAAF-46C7-8B65-6C6FE28D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82EED-D128-42E4-A65B-C9F3575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7FD2-D7EB-4159-BC21-69B8E723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40DB0-5E1F-4D69-861E-E52CC3B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EA18A-BCC0-4CFA-8D97-5BB93178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D22E5-0D77-48C8-B43B-5B083679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CC57A-A908-4A60-A936-6276BD2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129E8-C7B8-4783-A603-EA950E5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D0EE6-9DEA-437B-900E-6F4EC61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8FE60-929A-4F94-9A73-DE227C3E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EA2E8D-2281-467F-8997-CCF4F65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39195-48E2-4425-A6EE-1DA45EB2E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29014-504B-440D-B243-952E2C3CE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7223-278A-44F1-A151-CC6A434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30DFB-9CF4-4082-A7F3-8B5F361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434E4-94EE-417C-9AA7-B0F9AA8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7D308-928B-44C1-B9B6-8505F33B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CCADA-D529-43B2-AD19-47A3435F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DB84FF-A78F-45B3-B6B7-B63BA813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45E24-A7FB-42C8-965E-DCFF5EF0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E9921-EBE1-42BB-945F-1BB1F37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9AAC7-3DAC-4322-B076-1F04FC29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0AEFA-EF67-40C1-93D5-49A1F0D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A59B2-C584-4B04-A806-7B35396E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80FD-B97B-48DB-944B-EF94B5096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458B7-2647-4E48-A3FD-08879F667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F5EA-FF09-49A5-A499-485185F14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8649-F68E-485D-80ED-02ACE5F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E75D5-A962-4A47-9210-5C6CD51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6778-6668-4751-8A8F-FE978CF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78C57-FBD1-4461-85C4-FAAF7F1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193E-9B29-4588-9F9A-DB9CD9E5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27BD-DBAC-4A3F-BF19-5EB78B47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71D8-C1C5-4B47-A00E-6781592A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383C-2AE0-4A48-AAF4-DF8A5DAE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216F-EC1E-420C-B894-03A795B75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DB0F-E4C7-4753-A009-DC159F2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89FE-9C53-4223-A4A4-150D8FEF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AB3F-6818-4179-8B64-13D3381EA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61458-1711-422D-8F6A-386988EDCD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09D56-DAE9-4864-9D53-C71E9ED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B12A2-EB7C-47D3-8A2A-1BFA7264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AE13C-88DF-45FC-A66C-D88A46B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CB605-A935-46C7-B22B-5B33C33F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ADD72-52F8-4D5F-96C4-D481385B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85F5A-63BF-4A7A-A8E0-58DAB22A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7049-66EF-4EA2-852A-618E4BA7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1D356-114E-4999-B644-1448764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BDA9F-F25F-475A-93D0-984FE049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121A1-89F7-485A-9556-73E81536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ED9CA-62D5-4832-AAA2-20C27C0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995CA-C035-402B-959D-CA6258218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5C12A8-2D81-46BB-ADF3-5F3BF6348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41F50-E8C4-4198-95BE-3603E522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D47BC5-26CC-487A-B4BE-7BE788C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62EE61-3383-4D34-860C-9CC6730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A70E8-E379-4097-9560-E10B221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60A72-5EB8-4164-9AD7-1ECADB0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6762F-6E99-4BAA-8E89-86C6DF8C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E17409-5668-4C1D-8D02-F02FED5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98345-2B30-40E6-AE27-77DFF1DB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7E7AC7-EA67-46A7-8573-D0E916F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9E742-5E46-41FD-A83D-166DA87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D9257-EC66-463D-9849-24C5053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4A6F3-65B4-441C-BA4B-59B714878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396A8-2955-4D94-90F7-D8A8887B9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4702-5ECA-4875-B52D-648A847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B7C7-2A41-4949-90AB-E9F147DC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1E3A-E157-4FFC-AE7B-8A46B336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667F-6404-4762-84B5-8071DF0E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6929F-24FB-452E-9D2E-897761E3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C952-3019-4D0E-9229-CBEE9C9E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58A9-0073-4FBE-A362-8503061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701D-9A5F-4CD6-9241-B35D8E9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00EE-B39D-4B2A-9140-F1C6A9F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A4164-CA80-4EF4-A5AC-42252A6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4D9E-A9FC-4FAC-AAD8-428DBA2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3956-1C88-4494-BD93-460FA2F2A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24C6D-871D-453E-8217-5BBF8F4D6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CF66D-563E-44F4-AABA-3FB0A927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B3CEC6-57D7-460A-9295-61CA0F5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68893-0CCC-4864-A04B-6AA1C3B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0E400-13D5-4BA1-B8A4-B3174D48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CCC3C-CDD3-4E0B-9B84-D3547CB8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A4F456-F121-4503-8C5D-A0CB14D4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293532-44AE-4E92-BD11-B02A38E6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2A8A17-DDE4-4251-8313-62AF0AF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FDB4B-BD1A-4A05-A5AB-0A2C8D98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9E38C-DFCA-4D5D-A63A-DA0AD924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826F7-D976-48D4-B691-E715E7E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B2609-678B-475D-ABCD-9ADB5898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17263-0AA8-4911-AA36-16CEC2DDB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96DDF-9001-4339-8423-C5C8C0645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B9C28-4480-4E84-91DD-09F8533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3001E-A28F-4F55-8142-459430A2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B308D-D884-477E-A546-DAC1899F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7DA50-DCF0-487B-9D02-83340A27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B993A-1344-40B9-ADCB-14D064F5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A735C-F21C-48E6-A76F-785AE5FD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AEA40-CFDF-46ED-BE62-0DAF335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6A1F1-5E70-4BE0-87E7-D7BC2527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ECAA-3B05-46D6-98E4-70087444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BFF9B-5960-468F-AE8D-D131FFC1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37C30-9FF8-455E-A0E8-A768B5E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05592-F254-44FE-BE86-D7BC456A09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4C9D7-636A-48D3-9F23-4982FC0BA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45DB5-1863-4A23-BFDD-B33DB906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8F28-9C27-49F5-AB6D-A16DBCA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3672E-17E8-4B54-870F-AE26F324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B65F3-0806-4E1F-A6CB-8BDC278C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50894-E641-4841-A42B-3534FEE8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5807F-15AC-4023-A64F-0CDC7439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A5C28-7928-4CCE-8873-F450BA12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20BC7-949B-48AF-9FE3-D74A8BD9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7D98-C969-4FEB-910C-BE8B20F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9588-7595-46AB-8904-E7DFB3B0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DCBA2-CEFC-46B8-A098-04C50BF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2E8BD-AFF2-4A80-A83C-3E0B99277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25FDD9-827E-4235-99CA-5991F4963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23C3AA-5DD0-4AA9-A5F7-647D9DD2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5C0BA-C970-422A-88F8-85E5BDC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4C4BA-B566-491E-BFE1-5B41F21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81AAD-70EE-4AD4-A3B1-43A6CE4D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0DAFD-9DE9-43DB-9410-2BFDE44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5CBEB-749A-4266-AC3F-1178F089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B59D58-4AA9-475D-BAC8-53EE19D5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8AA07-4689-4F1A-B0A6-1C6E89F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F6031-F60F-4072-A357-98C38C75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97E33-388D-4DE8-93EA-2D22A271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0768B-F9E4-436F-A21D-E76BB40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88F8FF-2719-4369-8BF9-CC90B13E0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103F4F-D6F2-426F-87FA-5FAE1D7FB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73A017-CC60-4D94-A385-1F75EA55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3B4FD6-B760-42E8-8B25-E58A4EA5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9A961-76B9-4C52-89DB-BF4F0E2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7CBEDC-BFD6-4160-B531-CDC375C7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73D270-73AE-4966-9760-FFC1BDD9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46C05B-8F86-493D-93C4-FCE25580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927AE-3BBE-4AFE-A84E-6A402896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5BBEB9-8079-48B1-BFE5-33A9EE9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BB1BE-7001-4BBF-B1BD-A60AC4D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87407A-766E-4C6D-9106-044B869F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C70E02-6ECC-4282-8AEE-A29C53C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2FAC4-9EFF-43F4-B038-E70389287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F99C8-2230-4A44-8A5E-4437F41DA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EF7A4-7390-4583-A6C9-73BE40B3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06003-8793-44A3-A940-2E26B39E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5B04-7FB6-433D-BCB0-5A80A26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69BB0-85D9-49BD-AAE0-573F46A3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7FBE3-1291-4652-B575-01B36746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0BD1-ABC9-43FD-928F-45E1569B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B9EA8-AFB4-43A2-ADB5-FA54086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D5746-F912-48C0-B956-28D350C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75BA6-F3FE-4A46-A409-48A892C6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7416B-530A-40C1-956A-D1598839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DC6BE-E88B-4D62-88E5-FA39652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52DFF-2030-4041-9AB7-0AB0EE03E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86537-CDD1-4ACB-B035-525440BD8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53EB55-7D61-4D98-B18A-ACA723D04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0EE4C8-7AA8-4E2B-9398-86C358B9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9FFD7E-8FD2-4FEE-93F3-21E2AB75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BF3BF6-6F86-43B6-AEFA-F667DAD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0811F2-395B-499F-8BB6-56CFFF14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BD965A-D92D-4F25-B740-53DB8C05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E352DF-7621-47F6-8469-042840B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E01B1-DC45-4A5C-99E8-752941D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E1424D-554B-4D4A-8E3E-1AF6799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1B860-1E79-4474-9742-6673017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527EF3-9E20-48BC-93E7-DA87150C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6299D-DB5F-4B6A-BC8C-AFAC446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86C0FA-2E29-4ECA-B054-8D0B9CE82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C72AB0-656A-4DB4-874F-EE541219E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D8CB23-DCF2-470A-84D0-9DDC03D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B361AB-401E-4A01-B643-2B51D7E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1DE7C2-5F68-4021-B786-4F61A80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A9407D-AF9D-44E7-982C-39F1ABAB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37BD96-50DF-489C-B9D6-37929B41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4BD593-B396-49FB-BE5A-CE91D07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D13B3-B8DE-4EF2-A183-8E1FC879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DFD2EA-8574-4C2F-B8D5-FF759DD4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35275-0A35-46B7-84C2-C5BED96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ACC621-2F26-4F57-AEA2-E30B08B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EEFB63-BA87-4007-BCF8-0106A8D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B74779-388A-42CF-AF5C-A158026E2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8C717-5887-4A5C-8A4F-FCA0A39B5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C3EFA-AC05-4B38-B8F7-BB12E11A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FDCB1-95B5-4896-9A72-D112213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E91BF-FC27-4202-AE68-293CE95F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01AA9-66C2-4688-B30C-9EF6335F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0D92D-9DC5-45BA-9568-5ACB867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928D4-1B36-4CAF-9999-97EB394C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4E97B-297E-4EFB-BBC9-5EFF09E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A966C-2512-4ECB-BF32-C2E55B26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C22D4-C668-47E1-AA34-9300878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07E35-11CF-4F11-BDE1-B556EBFA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12495-2952-4906-9A7A-A78C203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62C00-F49D-470D-BF2F-4B37E290F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0B0551-DC95-42F3-B435-771EF965E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5E3A33-5407-4B60-BCCD-46DAAC2D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988447-7767-44DC-B28D-460860CB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3F87F-126F-48D0-A58C-183428C2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D301BE-DC00-4D48-B521-374D5CC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485F1C-7757-4D6C-8070-7E8519B7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5AA9EC-CE69-4AEF-B301-1F75CD8B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3DA620-C52B-4011-8FDE-849511F9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80CE15-80B5-45C2-8BF7-DC9A8B3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7C7D2C-F962-4727-AB53-B7D603F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70FCB0-0B87-4FFE-ACC7-3950367C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CFDEEE-E3A0-4984-B5C3-030B8F3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07C620-1D20-4FEE-9445-05AC6CBB3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E80DBF-7C41-46B9-BF49-92ECA0C85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B5B5C-364D-425D-9AAB-51DF481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7378CC-35CD-4094-B061-FB0C868D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06410C-A5C9-45D9-9A4F-64E19544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526A34-B8F3-44F4-989A-68ABCAE0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6025E2-9F04-42F7-B5A5-CFACEBD1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EFAB48-6DAA-4D34-9F76-D8DB18EA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D40C4F-C6B4-4696-BC12-C8E471F4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2EB9F6-CB33-429C-9BBB-1334308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E62A91-3839-4900-8367-4DD849B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D2CB83-1549-4F7B-B2D9-3357374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0A5A17-F6DD-4DBB-A312-058FBC8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352AD-DE15-4AE4-A939-5F22050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7B7EE7-37D2-40E4-9683-35856F8E6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C71C7-3759-44C4-84A9-2A51C2C3C0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C9A67-B585-4496-B2B6-AC031929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B669B-28BD-4C92-9584-7BC4A1D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DFA17-856A-4EFA-A4AF-A4C56A2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A2B1B-5F7E-40A0-9C38-A0BF0DA2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94AF0-8001-4405-AFA1-B3D9FCD0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588BF-C722-4B47-80D5-7C9E7E4B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41FC7-13A8-44D7-BCF3-5422C52A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52749-B07D-446C-A7B8-3DAF4455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574CC-0A12-4E7C-9BB2-1E14F3D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6A5BE-E254-4CCC-B6E0-530F3F4A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88F71-FBD1-4B63-B901-6161C26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C3C0D-090F-4589-81BD-096B2BF87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171F55-6CBD-44F7-82D6-07E1FA393D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195BE0-357B-4B56-A333-9804C3A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3A3026-9BF9-4E34-B9DB-4DF3D1F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5A7389-B16C-46A4-ABE0-A376177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8EDC49-D5A0-40E4-BC96-BFB0EEC8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97BD91-B671-4A07-9BB3-6DB7821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DC3EFF-928A-43D8-BEF1-B91B511B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FD285-4F14-4D2F-AD34-F5A03B5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958104-3F79-4D99-A32C-C8DB1A31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6F75EE-D140-4441-81BB-CC66508B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9E27BC-368D-4FA2-9199-B74D77E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2CFDDA-1678-4C40-B5C6-C9CA384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198556-E722-4955-884B-EA2C08A95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231C73-3944-4E40-845C-D844535B8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C769C8-92B8-4B3E-BDD9-4BAF62AA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532E36-5F7E-4493-B683-827D7A6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D884E1-4B16-4222-B702-D97C1854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590194-CF42-48E1-AC16-87D365F2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25400-3869-48CC-A45A-68DA032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28228E-B8A7-4CEE-9A73-480584A7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C272AC-E92D-4D09-8C96-325FEBBF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15EA10-488C-4774-8600-76318A36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28807A-CCF5-420E-809B-9CCFC77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B0DC79-5309-41DB-915E-58FE0B94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C29059-A761-43DA-B621-BAAA354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53FA23-6DB1-466F-80F9-A89140834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0FD05-B40F-470B-88C9-F5FA6A649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A47CD-D86B-41C2-8474-3B5B7BC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BFE03-1AEC-4FB2-976C-FE019D9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D3E19-C0BE-40CD-9B60-86EB052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F4A1F-7DA5-4903-A740-74CF788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AEC86-A995-447E-A997-E9F9A201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B35C1-1F0A-4ADD-85D5-3DF668A3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4B431-FF34-4C0C-8399-6FF52947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F2719-D305-4CC6-BA94-02540BD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8DFA0-628C-459E-BE11-9638A91B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65191-4BFA-4ADF-87C6-4105B472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AB07C-1C19-4BD7-990F-575CB5E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D63AC-F58A-4378-A679-CC85B9A207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B2133-0840-4BDE-89E9-0E4A975E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F5E9C-71CC-4310-97D8-80D29D09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EF56A-773D-4605-A447-9C1CB09A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F3CF1-1648-4E19-A263-AC53BE1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330A9-C28D-4E22-B08F-212FF8B5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8D7DD-97DD-46FE-B7D6-480A228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B0D0F-7099-4D82-87BB-462BC05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D2AF7-BD4C-4C82-B64E-ED7A4CD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9E045-099E-475C-929E-8D7465F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C84F4-3E4D-4015-A48E-5333665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A2342-513F-41A4-B793-CE5EAC0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42A78-0C2D-4C92-ADA3-FF8FFBC9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BB189-549F-43D5-BD65-5CD8B679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1B947-91D6-4B2E-8852-B5EF5D4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3390D-9D57-4E53-A8DA-4852FB7C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90254-3428-4F08-A837-571C4D1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CC648-EE03-4918-9843-4E8F1A9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5A0AE-BAC0-469D-91D6-01798046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20154-915F-43EF-A00B-2E73580C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A6DA6-6C41-4ED3-9A63-2163D2C0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76426-0018-4BFE-9AAD-82C2717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57A72-CA7A-4340-9F07-F4A98DB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0CBEC-F666-41A4-BA37-D7A3488F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77FFC-4F52-480E-BB14-ADA5F5F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3D7A2-723D-4EDD-8FC2-0EA02D97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85E29-3B9A-462F-9557-5269D40E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30B9E-E496-4318-9EAC-C7267829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936BA-41DA-499B-9F72-BA01C51E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BC13F-9CE7-48F1-8DE4-8C5E781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92F2E-92F8-4402-A075-5CCD096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D7D77B-5B72-4678-B920-F210FEB8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E579F-BA8F-4DE4-B850-F22C8E87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1919E-84B7-47BA-A60B-E104095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DFB216-7088-4DB6-BEF9-2E77607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C25BE-4907-480B-8C79-D37D0EE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F9589-C783-48AD-8F54-989ECA6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7B6E1-EBF8-407B-8C99-A7673E89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A44F2-CE5E-449E-B4FB-9FC02CAA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FC4EF6-C459-4BC9-BE49-05FC2B83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CE1A8-3E67-4E05-9BC2-FC451F2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21C3B-847A-4B6F-AA7C-73F865B9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17ABA-87C2-49BE-B8F0-8B8D8FE8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9706F-04F6-4D4F-8447-2B57255B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BCEE7-C78A-410E-BC6D-D2BD481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4443C-9A5E-4FB0-8D80-8EBAA8F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82CDB-B58A-46C5-896D-1C57BDA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56F76-3AA6-4B5A-8587-4FF5E28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EB472-9356-42FD-B0B8-D43ABFED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A6FD0-0DB5-49EE-90F7-B5C85DB9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062B1-282C-4554-A1E9-20273DF0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AD401-B5E5-468F-90AB-4CD5DA3E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5993D-D691-4392-89E9-EF61609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19D996-6F25-4202-A306-05BC144F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D5B9C0-1F79-430C-A080-9F3E4159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35387-8AEE-4DF6-B893-EF6D0B9E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C9035-EB24-4E9B-94E4-85DABD5E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2A7A9-0988-4EC9-A2CF-33B6825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99DB37-A4C7-45C9-B617-355C057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503744-566B-4CEA-89EB-964F334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522DF-8C5C-4421-B38F-BB97FA5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26490-48B1-4B1D-AAF3-2A100406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BD886-7619-42DA-A78A-7926126F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C48915-C037-4171-94E6-A994814D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1B23DA-CC02-4EB9-9CEF-D1CBC5E5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90C70-8EA5-4A10-927D-E45F83E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3A1F0-0143-4D2C-ACD3-52A97EDD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15A639-9306-4C7D-AC08-21544CC9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3491B8-EED1-4D6B-9903-121F863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2C393-3E9F-4222-BA65-01A4808F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BD4ACD-7726-41CB-8F9E-CCCE919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861D6-367D-4876-9237-9AE8815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398065-BF50-46BF-B5D5-FC850AB8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5717B-5DD6-4EB8-A924-521215AC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F4D84-36D1-4466-A173-1573238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3AC15-C6E4-4137-85D9-94C444A8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343E6-EECB-45EE-A616-2866C7C7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8FB648-57EE-4E1A-97B8-500B45C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A6CEC7-9AA7-4488-9469-0D4951D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F42EA0-7FE4-40A5-BE9E-7943F297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80CA12-15B5-40A1-8E9B-41F8D43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1BF4A-AB2D-45BD-A33A-7F688D9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311329-F700-4D2E-8023-4815FBB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680397-5BFB-4036-9A4C-D8C8C495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92395B-CAE9-4261-8F7B-DA258A0B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9E101A-74BD-4C38-9ADE-36D105C5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9D5197-CA00-4ADD-B070-EA9CEAC2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1F9D4D-EAA8-4E8E-863C-D292D117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B1254E-EDC0-4B56-B853-285F47A7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6F8011-4DD1-4746-BF54-DADA52D3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E84AC0-2191-4960-85C9-EFD50EC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7C035-C785-4F8F-9E27-190A4E07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BB39E-36B3-4F72-9EAF-165E2804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B3A91-39BD-439C-B332-33C160E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68A505-1104-464A-B58C-A7A2F30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B2BB8-6461-4FDF-94AB-2ABB2E5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95421-6EA1-4B45-9C48-333C6EC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302FE7-AE32-4D2A-AAE3-D7936D5B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588CDE-578E-44FA-BACB-001B60E1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534E54-BBA7-43A1-839C-6D3A8C08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169B1-386B-4933-B87D-4F25287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7D6FE-5248-43D4-A7D5-224828D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CA8DF-423F-406E-861F-AF3ABFD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310D58-91A2-4151-9241-4D43E678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505475-ACF2-433D-AA5F-D57ABF0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B8A6E-02A6-4AC1-9A15-F9A9C90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C42D2E-307E-4663-8459-62DDC0F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F84518-2047-41C1-99AD-40C50489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8BD91-3342-4EE4-81D6-C2978F82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22CE7D-F591-41A2-9969-14BEFB36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F075AB-8A80-4946-8CA5-28E9F451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1D3319-5CB7-43E8-BCA2-86BD8BC9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3EFED7-64D4-446A-9ED6-AD39C61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3C9FCA-5A7C-47B1-BC85-08D61951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70AD5-6878-4167-9AF9-F56347C3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16AB22-DDDF-4087-A173-CBA3F76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9B9F75-D6CA-439B-8C9F-E0FC76E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517D93-7828-4B44-BF51-D5A83D5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5B7832-5AD9-459E-80D1-43108FF9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AF0EBA-30A7-4AD1-B4D3-49337AE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191DAF-E5D2-4993-A371-6EE18DF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4ED3C4-7171-4E4E-BD2E-8CA5E77D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F21C6F-26A6-45DA-9AC5-4CF0EC0F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B71F89-0A6D-45BF-8A58-D3C016F8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B21F09-4AB7-43C4-9F1B-4FCD474D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945FA9-D13A-4E49-9F12-431A440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D74EA2-8E33-47C5-895A-AF3B1F0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716E65-E9ED-4FC0-AE20-237BD9B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1746B3-319C-40A3-A698-447EFAB4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6DCBF3-5EBD-40FF-92E9-664BB46B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039E03-B93C-4A94-9FB2-7449A92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E7750D-A8EB-4582-8085-0622F94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04354F-E4E8-4EE2-84F3-68B4CCBE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CE75E0-50F8-4811-8F53-08BC15B5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5B3CEF-63B7-469C-94A8-4DA4AD1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9640" y="27792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444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444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444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../../../&#30446;&#24405;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hyperlink" Target="../../../&#30446;&#24405;.ppt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00801">
            <a:hlinkClick r:id="rId2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101825">
            <a:hlinkClick r:id="" action="ppaction://hlinkshowjump?jump=firstslide"/>
          </p:cNvPr>
          <p:cNvSpPr/>
          <p:nvPr/>
        </p:nvSpPr>
        <p:spPr>
          <a:xfrm>
            <a:off x="1684440" y="230040"/>
            <a:ext cx="1030320" cy="285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1101851" descr="探究"/>
          <p:cNvPicPr/>
          <p:nvPr/>
        </p:nvPicPr>
        <p:blipFill>
          <a:blip r:embed="rId2"/>
          <a:srcRect l="0" t="0" r="27946" b="3073"/>
          <a:stretch/>
        </p:blipFill>
        <p:spPr>
          <a:xfrm>
            <a:off x="3171960" y="230040"/>
            <a:ext cx="847440" cy="295560"/>
          </a:xfrm>
          <a:prstGeom prst="rect">
            <a:avLst/>
          </a:prstGeom>
          <a:ln w="0">
            <a:noFill/>
          </a:ln>
        </p:spPr>
      </p:pic>
      <p:pic>
        <p:nvPicPr>
          <p:cNvPr id="39" name="图片 1101852" descr="难题"/>
          <p:cNvPicPr/>
          <p:nvPr/>
        </p:nvPicPr>
        <p:blipFill>
          <a:blip r:embed="rId3"/>
          <a:srcRect l="0" t="0" r="27486" b="6265"/>
          <a:stretch/>
        </p:blipFill>
        <p:spPr>
          <a:xfrm>
            <a:off x="4238640" y="219240"/>
            <a:ext cx="866880" cy="2854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101853" descr="拓展"/>
          <p:cNvPicPr/>
          <p:nvPr/>
        </p:nvPicPr>
        <p:blipFill>
          <a:blip r:embed="rId4"/>
          <a:srcRect l="0" t="0" r="23756" b="0"/>
          <a:stretch/>
        </p:blipFill>
        <p:spPr>
          <a:xfrm>
            <a:off x="5326200" y="217440"/>
            <a:ext cx="855360" cy="30492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101854" descr="巩固"/>
          <p:cNvPicPr/>
          <p:nvPr/>
        </p:nvPicPr>
        <p:blipFill>
          <a:blip r:embed="rId5"/>
          <a:srcRect l="0" t="0" r="7746" b="3664"/>
          <a:stretch/>
        </p:blipFill>
        <p:spPr>
          <a:xfrm>
            <a:off x="6402240" y="219240"/>
            <a:ext cx="849600" cy="29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01855" descr="总结"/>
          <p:cNvPicPr/>
          <p:nvPr/>
        </p:nvPicPr>
        <p:blipFill>
          <a:blip r:embed="rId6"/>
          <a:stretch/>
        </p:blipFill>
        <p:spPr>
          <a:xfrm>
            <a:off x="7472520" y="219240"/>
            <a:ext cx="92052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sldNum" idx="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807-BE65-4D9D-A2A4-936A156D471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1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sldNum" idx="1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C23E-500B-450D-9DB8-1514CCB43EE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81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2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3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4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85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F344-AD55-4922-8292-A8E8DAC567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67724">
            <a:hlinkClick r:id="rId3"/>
          </p:cNvPr>
          <p:cNvSpPr/>
          <p:nvPr/>
        </p:nvSpPr>
        <p:spPr>
          <a:xfrm>
            <a:off x="1660680" y="208080"/>
            <a:ext cx="1049040" cy="322200"/>
          </a:xfrm>
          <a:prstGeom prst="rect">
            <a:avLst/>
          </a:prstGeom>
          <a:solidFill>
            <a:srgbClr val="cccc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dt" idx="1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1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D11-58DD-4B76-A53B-8556A8C307D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1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sldNum" idx="1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40BC-3A68-421A-9C23-B0F550D6D2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1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sldNum" idx="1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FEB-82B7-4ABF-A2B5-0549FB0A24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1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1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D12-9398-4B65-B558-8A99D0C08E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2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2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D3A9-9927-4748-AF7B-ED56324827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2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sldNum" idx="2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F92-F022-4F6C-B7EE-5049F77825B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2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sldNum" idx="2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483A-1532-4A7B-813A-57DC9791A2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2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sldNum" idx="2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9068-5D93-4E5F-B7BE-AAD7A23C5AC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2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sldNum" idx="2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D6A-C69C-4F48-A8C9-963C61547D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3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sldNum" idx="3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313-EAA1-494B-A138-721AE9B7FBF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29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FB4-213C-42BE-B12A-DF644D0C14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3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sldNum" idx="3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3654-6E0F-4B58-9B22-238DED2EA3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3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sldNum" idx="3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EBA-B559-46D6-BB36-9392F300348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3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sldNum" idx="3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6054-206F-4672-8108-29033244695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dt" idx="3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 type="sldNum" idx="3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8239-8628-4337-8031-2BDDDE4CC1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dt" idx="4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sldNum" idx="4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FB2-0D4F-4790-A947-BE4A193419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4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sldNum" idx="4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003B-C6FD-42AD-8C97-17CF1EA2ADC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4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sldNum" idx="4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5AF9-B07F-4044-80E1-690ECBD35F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4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sldNum" idx="4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FDE-4950-4410-B30D-3E203B8E33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4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sldNum" idx="4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597-7344-42A4-BCE0-2B1E161CA71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5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sldNum" idx="5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7041-1C00-4528-9FA3-15E5BE93E1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80964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25602"/>
          <p:cNvGrpSpPr/>
          <p:nvPr/>
        </p:nvGrpSpPr>
        <p:grpSpPr>
          <a:xfrm>
            <a:off x="610920" y="4416480"/>
            <a:ext cx="7615440" cy="920160"/>
            <a:chOff x="610920" y="4416480"/>
            <a:chExt cx="7615440" cy="920160"/>
          </a:xfrm>
        </p:grpSpPr>
        <p:sp>
          <p:nvSpPr>
            <p:cNvPr id="176" name="椭圆 25603"/>
            <p:cNvSpPr/>
            <p:nvPr/>
          </p:nvSpPr>
          <p:spPr>
            <a:xfrm flipH="1">
              <a:off x="4407840" y="4416480"/>
              <a:ext cx="11048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" name="椭圆 25604"/>
            <p:cNvSpPr/>
            <p:nvPr/>
          </p:nvSpPr>
          <p:spPr>
            <a:xfrm flipH="1">
              <a:off x="7123320" y="4416480"/>
              <a:ext cx="110304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" name="椭圆 25605"/>
            <p:cNvSpPr/>
            <p:nvPr/>
          </p:nvSpPr>
          <p:spPr>
            <a:xfrm flipH="1">
              <a:off x="610560" y="4417560"/>
              <a:ext cx="1103400" cy="91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9" name="椭圆 25606"/>
            <p:cNvSpPr/>
            <p:nvPr/>
          </p:nvSpPr>
          <p:spPr>
            <a:xfrm flipH="1">
              <a:off x="586368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80" name="椭圆 25607"/>
            <p:cNvSpPr/>
            <p:nvPr/>
          </p:nvSpPr>
          <p:spPr>
            <a:xfrm flipH="1">
              <a:off x="1897920" y="4416480"/>
              <a:ext cx="1103400" cy="9190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4399-113A-484B-9E10-3B611369F4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5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5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sldNum" idx="5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7C8-9B4A-45B9-8F6A-FD7C87A311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dt" idx="55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 type="ftr" idx="56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9" name="PlaceHolder 5"/>
          <p:cNvSpPr>
            <a:spLocks noGrp="1"/>
          </p:cNvSpPr>
          <p:nvPr>
            <p:ph type="sldNum" idx="57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EE2D-01FC-4AA8-A294-268E58A738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dt" idx="58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ftr" idx="59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sldNum" idx="60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1AD5-9BDF-4184-9DC9-3ADD743480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dt" idx="61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 type="ftr" idx="62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 type="sldNum" idx="63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39E-1F3E-4522-A988-FB6E96FB93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64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65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66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5DC-9D3C-4E84-9687-178948B554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 type="dt" idx="67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 type="ftr" idx="68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 type="sldNum" idx="69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3B5-8DC3-4EF2-A9DA-2124567211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dt" idx="70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 type="ftr" idx="71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 type="sldNum" idx="72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E85-C0D6-4460-AF8F-E30DAA28F6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73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74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75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074-AB12-4417-BF99-8582CDB903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76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77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78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FD2-50F9-4C0E-9B94-8632918A17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 type="dt" idx="79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 type="ftr" idx="80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 type="sldNum" idx="81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465-23FA-47E8-9D08-410EB40549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 type="dt" idx="82"/>
          </p:nvPr>
        </p:nvSpPr>
        <p:spPr>
          <a:xfrm>
            <a:off x="45684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 type="ftr" idx="83"/>
          </p:nvPr>
        </p:nvSpPr>
        <p:spPr>
          <a:xfrm>
            <a:off x="4038480" y="5295960"/>
            <a:ext cx="411480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 type="sldNum" idx="84"/>
          </p:nvPr>
        </p:nvSpPr>
        <p:spPr>
          <a:xfrm>
            <a:off x="6552720" y="520488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B738-DDD0-4F39-BC26-A53BA40827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5" name="图片 368689" descr=""/>
          <p:cNvPicPr/>
          <p:nvPr/>
        </p:nvPicPr>
        <p:blipFill>
          <a:blip r:embed="rId1"/>
          <a:srcRect l="44536" t="-17125" r="21955" b="0"/>
          <a:stretch/>
        </p:blipFill>
        <p:spPr>
          <a:xfrm>
            <a:off x="3986280" y="2421000"/>
            <a:ext cx="219528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0" name="图片 1256458" descr=""/>
          <p:cNvPicPr/>
          <p:nvPr/>
        </p:nvPicPr>
        <p:blipFill>
          <a:blip r:embed="rId1"/>
          <a:stretch/>
        </p:blipFill>
        <p:spPr>
          <a:xfrm>
            <a:off x="195120" y="787320"/>
            <a:ext cx="8778960" cy="1571760"/>
          </a:xfrm>
          <a:prstGeom prst="rect">
            <a:avLst/>
          </a:prstGeom>
          <a:ln w="0">
            <a:noFill/>
          </a:ln>
        </p:spPr>
      </p:pic>
      <p:pic>
        <p:nvPicPr>
          <p:cNvPr id="2361" name="图片 1256459" descr=""/>
          <p:cNvPicPr/>
          <p:nvPr/>
        </p:nvPicPr>
        <p:blipFill>
          <a:blip r:embed="rId2"/>
          <a:stretch/>
        </p:blipFill>
        <p:spPr>
          <a:xfrm>
            <a:off x="247680" y="2543040"/>
            <a:ext cx="8707320" cy="19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2" name="图片 1238033" descr="73"/>
          <p:cNvPicPr/>
          <p:nvPr/>
        </p:nvPicPr>
        <p:blipFill>
          <a:blip r:embed="rId1"/>
          <a:srcRect l="0" t="13343" r="11279" b="0"/>
          <a:stretch/>
        </p:blipFill>
        <p:spPr>
          <a:xfrm>
            <a:off x="3352680" y="676440"/>
            <a:ext cx="2619360" cy="612720"/>
          </a:xfrm>
          <a:prstGeom prst="rect">
            <a:avLst/>
          </a:prstGeom>
          <a:ln w="0">
            <a:noFill/>
          </a:ln>
        </p:spPr>
      </p:pic>
      <p:pic>
        <p:nvPicPr>
          <p:cNvPr id="2363" name="图片 1238035" descr=""/>
          <p:cNvPicPr/>
          <p:nvPr/>
        </p:nvPicPr>
        <p:blipFill>
          <a:blip r:embed="rId2"/>
          <a:stretch/>
        </p:blipFill>
        <p:spPr>
          <a:xfrm>
            <a:off x="252360" y="3913200"/>
            <a:ext cx="8202600" cy="1184400"/>
          </a:xfrm>
          <a:prstGeom prst="rect">
            <a:avLst/>
          </a:prstGeom>
          <a:ln w="0">
            <a:noFill/>
          </a:ln>
        </p:spPr>
      </p:pic>
      <p:grpSp>
        <p:nvGrpSpPr>
          <p:cNvPr id="2364" name="组合 1238038"/>
          <p:cNvGrpSpPr/>
          <p:nvPr/>
        </p:nvGrpSpPr>
        <p:grpSpPr>
          <a:xfrm>
            <a:off x="334800" y="1279440"/>
            <a:ext cx="8809200" cy="2511360"/>
            <a:chOff x="334800" y="1279440"/>
            <a:chExt cx="8809200" cy="2511360"/>
          </a:xfrm>
        </p:grpSpPr>
        <p:pic>
          <p:nvPicPr>
            <p:cNvPr id="2365" name="图片 1238034" descr=""/>
            <p:cNvPicPr/>
            <p:nvPr/>
          </p:nvPicPr>
          <p:blipFill>
            <a:blip r:embed="rId3"/>
            <a:stretch/>
          </p:blipFill>
          <p:spPr>
            <a:xfrm>
              <a:off x="347760" y="1279440"/>
              <a:ext cx="87962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6" name="矩形 1238036"/>
            <p:cNvSpPr/>
            <p:nvPr/>
          </p:nvSpPr>
          <p:spPr>
            <a:xfrm>
              <a:off x="334800" y="3281400"/>
              <a:ext cx="4604040" cy="5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7" name="图片 1248261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130480"/>
          </a:xfrm>
          <a:prstGeom prst="rect">
            <a:avLst/>
          </a:prstGeom>
          <a:ln w="0">
            <a:noFill/>
          </a:ln>
        </p:spPr>
      </p:pic>
      <p:sp>
        <p:nvSpPr>
          <p:cNvPr id="2368" name="矩形 1248262"/>
          <p:cNvSpPr/>
          <p:nvPr/>
        </p:nvSpPr>
        <p:spPr>
          <a:xfrm>
            <a:off x="3240000" y="2389320"/>
            <a:ext cx="557064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图片 1239060" descr="74"/>
          <p:cNvPicPr/>
          <p:nvPr/>
        </p:nvPicPr>
        <p:blipFill>
          <a:blip r:embed="rId1"/>
          <a:srcRect l="0" t="14622" r="12214" b="0"/>
          <a:stretch/>
        </p:blipFill>
        <p:spPr>
          <a:xfrm>
            <a:off x="2997360" y="787320"/>
            <a:ext cx="2841480" cy="666720"/>
          </a:xfrm>
          <a:prstGeom prst="rect">
            <a:avLst/>
          </a:prstGeom>
          <a:ln w="0">
            <a:noFill/>
          </a:ln>
        </p:spPr>
      </p:pic>
      <p:pic>
        <p:nvPicPr>
          <p:cNvPr id="2370" name="图片 1239061" descr=""/>
          <p:cNvPicPr/>
          <p:nvPr/>
        </p:nvPicPr>
        <p:blipFill>
          <a:blip r:embed="rId2"/>
          <a:stretch/>
        </p:blipFill>
        <p:spPr>
          <a:xfrm>
            <a:off x="915840" y="1558800"/>
            <a:ext cx="6935760" cy="3753000"/>
          </a:xfrm>
          <a:prstGeom prst="rect">
            <a:avLst/>
          </a:prstGeom>
          <a:ln w="0">
            <a:noFill/>
          </a:ln>
        </p:spPr>
      </p:pic>
      <p:sp>
        <p:nvSpPr>
          <p:cNvPr id="2371" name="矩形 1239062"/>
          <p:cNvSpPr/>
          <p:nvPr/>
        </p:nvSpPr>
        <p:spPr>
          <a:xfrm>
            <a:off x="4395960" y="4216320"/>
            <a:ext cx="3889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图片 1244164" descr=""/>
          <p:cNvPicPr/>
          <p:nvPr/>
        </p:nvPicPr>
        <p:blipFill>
          <a:blip r:embed="rId1"/>
          <a:stretch/>
        </p:blipFill>
        <p:spPr>
          <a:xfrm>
            <a:off x="1482840" y="1501920"/>
            <a:ext cx="5715000" cy="2390760"/>
          </a:xfrm>
          <a:prstGeom prst="rect">
            <a:avLst/>
          </a:prstGeom>
          <a:ln w="0">
            <a:noFill/>
          </a:ln>
        </p:spPr>
      </p:pic>
      <p:sp>
        <p:nvSpPr>
          <p:cNvPr id="2373" name="矩形 1244165"/>
          <p:cNvSpPr/>
          <p:nvPr/>
        </p:nvSpPr>
        <p:spPr>
          <a:xfrm>
            <a:off x="3849840" y="2882880"/>
            <a:ext cx="37414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图片 1247238" descr=""/>
          <p:cNvPicPr/>
          <p:nvPr/>
        </p:nvPicPr>
        <p:blipFill>
          <a:blip r:embed="rId1"/>
          <a:stretch/>
        </p:blipFill>
        <p:spPr>
          <a:xfrm>
            <a:off x="1068480" y="1122480"/>
            <a:ext cx="7008840" cy="3467160"/>
          </a:xfrm>
          <a:prstGeom prst="rect">
            <a:avLst/>
          </a:prstGeom>
          <a:ln w="0">
            <a:noFill/>
          </a:ln>
        </p:spPr>
      </p:pic>
      <p:sp>
        <p:nvSpPr>
          <p:cNvPr id="2375" name="矩形 1247239"/>
          <p:cNvSpPr/>
          <p:nvPr/>
        </p:nvSpPr>
        <p:spPr>
          <a:xfrm>
            <a:off x="4321080" y="2178000"/>
            <a:ext cx="10414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6" name="矩形 1247240"/>
          <p:cNvSpPr/>
          <p:nvPr/>
        </p:nvSpPr>
        <p:spPr>
          <a:xfrm>
            <a:off x="3448080" y="3165480"/>
            <a:ext cx="7999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7" name="矩形 1247241"/>
          <p:cNvSpPr/>
          <p:nvPr/>
        </p:nvSpPr>
        <p:spPr>
          <a:xfrm>
            <a:off x="3648240" y="4143240"/>
            <a:ext cx="49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8" name="图片 1246215" descr=""/>
          <p:cNvPicPr/>
          <p:nvPr/>
        </p:nvPicPr>
        <p:blipFill>
          <a:blip r:embed="rId1"/>
          <a:stretch/>
        </p:blipFill>
        <p:spPr>
          <a:xfrm>
            <a:off x="1262160" y="1627200"/>
            <a:ext cx="6621480" cy="2457360"/>
          </a:xfrm>
          <a:prstGeom prst="rect">
            <a:avLst/>
          </a:prstGeom>
          <a:ln w="0">
            <a:noFill/>
          </a:ln>
        </p:spPr>
      </p:pic>
      <p:sp>
        <p:nvSpPr>
          <p:cNvPr id="2379" name="矩形 1246217"/>
          <p:cNvSpPr/>
          <p:nvPr/>
        </p:nvSpPr>
        <p:spPr>
          <a:xfrm>
            <a:off x="5361120" y="2178000"/>
            <a:ext cx="3902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0" name="矩形 1246218"/>
          <p:cNvSpPr/>
          <p:nvPr/>
        </p:nvSpPr>
        <p:spPr>
          <a:xfrm>
            <a:off x="6043680" y="3649680"/>
            <a:ext cx="6634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图片 1245191" descr=""/>
          <p:cNvPicPr/>
          <p:nvPr/>
        </p:nvPicPr>
        <p:blipFill>
          <a:blip r:embed="rId1"/>
          <a:stretch/>
        </p:blipFill>
        <p:spPr>
          <a:xfrm>
            <a:off x="965160" y="900000"/>
            <a:ext cx="6954840" cy="4581720"/>
          </a:xfrm>
          <a:prstGeom prst="rect">
            <a:avLst/>
          </a:prstGeom>
          <a:ln w="0">
            <a:noFill/>
          </a:ln>
        </p:spPr>
      </p:pic>
      <p:sp>
        <p:nvSpPr>
          <p:cNvPr id="2382" name="矩形 1245192"/>
          <p:cNvSpPr/>
          <p:nvPr/>
        </p:nvSpPr>
        <p:spPr>
          <a:xfrm>
            <a:off x="7191360" y="2009880"/>
            <a:ext cx="4953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3" name="矩形 1245193"/>
          <p:cNvSpPr/>
          <p:nvPr/>
        </p:nvSpPr>
        <p:spPr>
          <a:xfrm>
            <a:off x="2336760" y="2505240"/>
            <a:ext cx="55832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4" name="矩形 1245194"/>
          <p:cNvSpPr/>
          <p:nvPr/>
        </p:nvSpPr>
        <p:spPr>
          <a:xfrm>
            <a:off x="1401840" y="2987640"/>
            <a:ext cx="55832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5" name="矩形 1245195"/>
          <p:cNvSpPr/>
          <p:nvPr/>
        </p:nvSpPr>
        <p:spPr>
          <a:xfrm>
            <a:off x="7202520" y="3984480"/>
            <a:ext cx="4953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6" name="矩形 1245196"/>
          <p:cNvSpPr/>
          <p:nvPr/>
        </p:nvSpPr>
        <p:spPr>
          <a:xfrm>
            <a:off x="2336760" y="4470480"/>
            <a:ext cx="55832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7" name="矩形 1245197"/>
          <p:cNvSpPr/>
          <p:nvPr/>
        </p:nvSpPr>
        <p:spPr>
          <a:xfrm>
            <a:off x="1401840" y="4984920"/>
            <a:ext cx="558324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8" name="图片 1243140" descr=""/>
          <p:cNvPicPr/>
          <p:nvPr/>
        </p:nvPicPr>
        <p:blipFill>
          <a:blip r:embed="rId1"/>
          <a:stretch/>
        </p:blipFill>
        <p:spPr>
          <a:xfrm>
            <a:off x="1116000" y="708120"/>
            <a:ext cx="6885000" cy="4295520"/>
          </a:xfrm>
          <a:prstGeom prst="rect">
            <a:avLst/>
          </a:prstGeom>
          <a:ln w="0">
            <a:noFill/>
          </a:ln>
        </p:spPr>
      </p:pic>
      <p:sp>
        <p:nvSpPr>
          <p:cNvPr id="2389" name="矩形 1243141"/>
          <p:cNvSpPr/>
          <p:nvPr/>
        </p:nvSpPr>
        <p:spPr>
          <a:xfrm rot="1227000">
            <a:off x="3355560" y="3228480"/>
            <a:ext cx="797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0" name="矩形 1243142"/>
          <p:cNvSpPr/>
          <p:nvPr/>
        </p:nvSpPr>
        <p:spPr>
          <a:xfrm>
            <a:off x="4659480" y="3913200"/>
            <a:ext cx="8920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1" name="矩形 1243143"/>
          <p:cNvSpPr/>
          <p:nvPr/>
        </p:nvSpPr>
        <p:spPr>
          <a:xfrm>
            <a:off x="3271680" y="4638600"/>
            <a:ext cx="640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2" name="矩形 1243144"/>
          <p:cNvSpPr/>
          <p:nvPr/>
        </p:nvSpPr>
        <p:spPr>
          <a:xfrm>
            <a:off x="1863720" y="3713040"/>
            <a:ext cx="67140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3" name="矩形 1243145"/>
          <p:cNvSpPr/>
          <p:nvPr/>
        </p:nvSpPr>
        <p:spPr>
          <a:xfrm>
            <a:off x="5972040" y="3860640"/>
            <a:ext cx="18795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4" name="图片 1264641" descr=""/>
          <p:cNvPicPr/>
          <p:nvPr/>
        </p:nvPicPr>
        <p:blipFill>
          <a:blip r:embed="rId1"/>
          <a:stretch/>
        </p:blipFill>
        <p:spPr>
          <a:xfrm>
            <a:off x="1111320" y="1146240"/>
            <a:ext cx="6923160" cy="3419280"/>
          </a:xfrm>
          <a:prstGeom prst="rect">
            <a:avLst/>
          </a:prstGeom>
          <a:ln w="0">
            <a:noFill/>
          </a:ln>
        </p:spPr>
      </p:pic>
      <p:sp>
        <p:nvSpPr>
          <p:cNvPr id="2395" name="矩形 1264642"/>
          <p:cNvSpPr/>
          <p:nvPr/>
        </p:nvSpPr>
        <p:spPr>
          <a:xfrm>
            <a:off x="1860480" y="2987640"/>
            <a:ext cx="473076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6" name="图片 377064" descr="71"/>
          <p:cNvPicPr/>
          <p:nvPr/>
        </p:nvPicPr>
        <p:blipFill>
          <a:blip r:embed="rId1"/>
          <a:srcRect l="0" t="11993" r="14416" b="0"/>
          <a:stretch/>
        </p:blipFill>
        <p:spPr>
          <a:xfrm>
            <a:off x="2975040" y="755640"/>
            <a:ext cx="2770200" cy="687240"/>
          </a:xfrm>
          <a:prstGeom prst="rect">
            <a:avLst/>
          </a:prstGeom>
          <a:ln w="0">
            <a:noFill/>
          </a:ln>
        </p:spPr>
      </p:pic>
      <p:pic>
        <p:nvPicPr>
          <p:cNvPr id="2347" name="图片 377065" descr=""/>
          <p:cNvPicPr/>
          <p:nvPr/>
        </p:nvPicPr>
        <p:blipFill>
          <a:blip r:embed="rId2"/>
          <a:stretch/>
        </p:blipFill>
        <p:spPr>
          <a:xfrm>
            <a:off x="324000" y="1712880"/>
            <a:ext cx="822312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6" name="图片 1263617" descr=""/>
          <p:cNvPicPr/>
          <p:nvPr/>
        </p:nvPicPr>
        <p:blipFill>
          <a:blip r:embed="rId1"/>
          <a:stretch/>
        </p:blipFill>
        <p:spPr>
          <a:xfrm>
            <a:off x="1104840" y="1084320"/>
            <a:ext cx="6935760" cy="3543120"/>
          </a:xfrm>
          <a:prstGeom prst="rect">
            <a:avLst/>
          </a:prstGeom>
          <a:ln w="0">
            <a:noFill/>
          </a:ln>
        </p:spPr>
      </p:pic>
      <p:sp>
        <p:nvSpPr>
          <p:cNvPr id="2397" name="矩形 1263618"/>
          <p:cNvSpPr/>
          <p:nvPr/>
        </p:nvSpPr>
        <p:spPr>
          <a:xfrm>
            <a:off x="3921120" y="2871720"/>
            <a:ext cx="406872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8" name="图片 1262593" descr=""/>
          <p:cNvPicPr/>
          <p:nvPr/>
        </p:nvPicPr>
        <p:blipFill>
          <a:blip r:embed="rId1"/>
          <a:stretch/>
        </p:blipFill>
        <p:spPr>
          <a:xfrm>
            <a:off x="1189080" y="763560"/>
            <a:ext cx="6359400" cy="4765680"/>
          </a:xfrm>
          <a:prstGeom prst="rect">
            <a:avLst/>
          </a:prstGeom>
          <a:ln w="0">
            <a:noFill/>
          </a:ln>
        </p:spPr>
      </p:pic>
      <p:sp>
        <p:nvSpPr>
          <p:cNvPr id="2399" name="矩形 1262594"/>
          <p:cNvSpPr/>
          <p:nvPr/>
        </p:nvSpPr>
        <p:spPr>
          <a:xfrm>
            <a:off x="1630440" y="3218040"/>
            <a:ext cx="55292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0" name="图片 1257480" descr="75"/>
          <p:cNvPicPr/>
          <p:nvPr/>
        </p:nvPicPr>
        <p:blipFill>
          <a:blip r:embed="rId1"/>
          <a:srcRect l="0" t="0" r="11958" b="0"/>
          <a:stretch/>
        </p:blipFill>
        <p:spPr>
          <a:xfrm>
            <a:off x="3174840" y="693720"/>
            <a:ext cx="2829240" cy="78120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"/>
          <p:cNvSpPr/>
          <p:nvPr/>
        </p:nvSpPr>
        <p:spPr>
          <a:xfrm>
            <a:off x="236520" y="2162160"/>
            <a:ext cx="865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节课你印象最深刻的是什么？通过课堂活动，你有什么体会和收获？和老师、同学交流一下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402" name="Picture 10" descr="C:\Documents and Settings\Administrator\桌面\我上学了副本.jpg"/>
          <p:cNvPicPr/>
          <p:nvPr/>
        </p:nvPicPr>
        <p:blipFill>
          <a:blip r:embed="rId2"/>
          <a:srcRect l="0" t="20452" r="0" b="6364"/>
          <a:stretch/>
        </p:blipFill>
        <p:spPr>
          <a:xfrm>
            <a:off x="5934240" y="3983040"/>
            <a:ext cx="27702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8" name="图片 1240069" descr=""/>
          <p:cNvPicPr/>
          <p:nvPr/>
        </p:nvPicPr>
        <p:blipFill>
          <a:blip r:embed="rId1"/>
          <a:stretch/>
        </p:blipFill>
        <p:spPr>
          <a:xfrm>
            <a:off x="376200" y="1784520"/>
            <a:ext cx="83916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图片 1255426" descr=""/>
          <p:cNvPicPr/>
          <p:nvPr/>
        </p:nvPicPr>
        <p:blipFill>
          <a:blip r:embed="rId1"/>
          <a:stretch/>
        </p:blipFill>
        <p:spPr>
          <a:xfrm>
            <a:off x="328680" y="1419120"/>
            <a:ext cx="84643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0" name="图片 1259521" descr=""/>
          <p:cNvPicPr/>
          <p:nvPr/>
        </p:nvPicPr>
        <p:blipFill>
          <a:blip r:embed="rId1"/>
          <a:stretch/>
        </p:blipFill>
        <p:spPr>
          <a:xfrm>
            <a:off x="333360" y="1325520"/>
            <a:ext cx="84772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1" name="图片 1260545" descr=""/>
          <p:cNvPicPr/>
          <p:nvPr/>
        </p:nvPicPr>
        <p:blipFill>
          <a:blip r:embed="rId1"/>
          <a:stretch/>
        </p:blipFill>
        <p:spPr>
          <a:xfrm>
            <a:off x="471600" y="1179360"/>
            <a:ext cx="3848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2" name="图片 1254402" descr=""/>
          <p:cNvPicPr/>
          <p:nvPr/>
        </p:nvPicPr>
        <p:blipFill>
          <a:blip r:embed="rId1"/>
          <a:stretch/>
        </p:blipFill>
        <p:spPr>
          <a:xfrm>
            <a:off x="282600" y="1182600"/>
            <a:ext cx="8601120" cy="2359080"/>
          </a:xfrm>
          <a:prstGeom prst="rect">
            <a:avLst/>
          </a:prstGeom>
          <a:ln w="0">
            <a:noFill/>
          </a:ln>
        </p:spPr>
      </p:pic>
      <p:sp>
        <p:nvSpPr>
          <p:cNvPr id="2353" name="矩形 1254403"/>
          <p:cNvSpPr/>
          <p:nvPr/>
        </p:nvSpPr>
        <p:spPr>
          <a:xfrm>
            <a:off x="2093760" y="2733840"/>
            <a:ext cx="24289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4" name="矩形 1254404"/>
          <p:cNvSpPr/>
          <p:nvPr/>
        </p:nvSpPr>
        <p:spPr>
          <a:xfrm>
            <a:off x="6518160" y="2754360"/>
            <a:ext cx="24289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5" name="图片 1230866" descr="72"/>
          <p:cNvPicPr/>
          <p:nvPr/>
        </p:nvPicPr>
        <p:blipFill>
          <a:blip r:embed="rId1"/>
          <a:srcRect l="0" t="13423" r="11580" b="0"/>
          <a:stretch/>
        </p:blipFill>
        <p:spPr>
          <a:xfrm>
            <a:off x="2997360" y="766800"/>
            <a:ext cx="2862000" cy="676080"/>
          </a:xfrm>
          <a:prstGeom prst="rect">
            <a:avLst/>
          </a:prstGeom>
          <a:ln w="0">
            <a:noFill/>
          </a:ln>
        </p:spPr>
      </p:pic>
      <p:pic>
        <p:nvPicPr>
          <p:cNvPr id="2356" name="图片 1230868" descr=""/>
          <p:cNvPicPr/>
          <p:nvPr/>
        </p:nvPicPr>
        <p:blipFill>
          <a:blip r:embed="rId2"/>
          <a:stretch/>
        </p:blipFill>
        <p:spPr>
          <a:xfrm>
            <a:off x="530280" y="1601640"/>
            <a:ext cx="5495760" cy="2276640"/>
          </a:xfrm>
          <a:prstGeom prst="rect">
            <a:avLst/>
          </a:prstGeom>
          <a:ln w="0">
            <a:noFill/>
          </a:ln>
        </p:spPr>
      </p:pic>
      <p:pic>
        <p:nvPicPr>
          <p:cNvPr id="2357" name="图片 1230869" descr=""/>
          <p:cNvPicPr/>
          <p:nvPr/>
        </p:nvPicPr>
        <p:blipFill>
          <a:blip r:embed="rId3"/>
          <a:stretch/>
        </p:blipFill>
        <p:spPr>
          <a:xfrm>
            <a:off x="560520" y="3814920"/>
            <a:ext cx="350496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图片 1253378" descr=""/>
          <p:cNvPicPr/>
          <p:nvPr/>
        </p:nvPicPr>
        <p:blipFill>
          <a:blip r:embed="rId1"/>
          <a:stretch/>
        </p:blipFill>
        <p:spPr>
          <a:xfrm>
            <a:off x="816120" y="1244520"/>
            <a:ext cx="5410080" cy="1457280"/>
          </a:xfrm>
          <a:prstGeom prst="rect">
            <a:avLst/>
          </a:prstGeom>
          <a:ln w="0">
            <a:noFill/>
          </a:ln>
        </p:spPr>
      </p:pic>
      <p:pic>
        <p:nvPicPr>
          <p:cNvPr id="2359" name="图片 1253379" descr=""/>
          <p:cNvPicPr/>
          <p:nvPr/>
        </p:nvPicPr>
        <p:blipFill>
          <a:blip r:embed="rId2"/>
          <a:stretch/>
        </p:blipFill>
        <p:spPr>
          <a:xfrm>
            <a:off x="773280" y="2827440"/>
            <a:ext cx="305748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0:30:56Z</dcterms:created>
  <dc:creator/>
  <dc:description/>
  <dc:language>en-US</dc:language>
  <cp:lastModifiedBy>万润仪器贸易公司</cp:lastModifiedBy>
  <dcterms:modified xsi:type="dcterms:W3CDTF">2020-08-24T00:31:04Z</dcterms:modified>
  <cp:revision>13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